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238413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56E-0BCD-4925-A6DB-28BD35D4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7240" y="478224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6E2-CB07-4E17-91AD-F49A7D1C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212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13A-6882-4D3A-B0AC-4143A31B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9108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3492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724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9108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3492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C7B-1BDB-4174-91D4-925D6B39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47240" y="425160"/>
            <a:ext cx="1314324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CD8-9283-48B4-8598-A1330367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8212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7240" y="478224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78212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9108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34920" y="213048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724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49108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9934920" y="4782240"/>
            <a:ext cx="423180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8DF-BE83-4BDF-BC8C-1954219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E95-7A3E-4F51-AC5A-4E799AD9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88A-0191-4CFB-B5F3-E265F0A3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240" y="425160"/>
            <a:ext cx="1314324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246-6EE9-4CEB-9F72-51CF6A42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487-1FC4-459E-9555-DA851CD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2120" y="478224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4B5-9A99-4A51-815E-DF7A0581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724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2120" y="2130480"/>
            <a:ext cx="641376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7240" y="4782240"/>
            <a:ext cx="1314324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7A2-81A9-486A-A785-575EA62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344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7240" y="7416720"/>
            <a:ext cx="34290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47920" y="7416720"/>
            <a:ext cx="51418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761480" y="7416720"/>
            <a:ext cx="34290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4A64E-F300-455D-A468-BE6F96C275C1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240" y="425160"/>
            <a:ext cx="131432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7240" y="2130480"/>
            <a:ext cx="1314324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344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0480" indent="-2667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hteck 1"/>
          <p:cNvSpPr/>
          <p:nvPr/>
        </p:nvSpPr>
        <p:spPr>
          <a:xfrm>
            <a:off x="5996160" y="0"/>
            <a:ext cx="9242280" cy="800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Grafik 2" descr=""/>
          <p:cNvPicPr/>
          <p:nvPr/>
        </p:nvPicPr>
        <p:blipFill>
          <a:blip r:embed="rId1"/>
          <a:stretch/>
        </p:blipFill>
        <p:spPr>
          <a:xfrm>
            <a:off x="0" y="0"/>
            <a:ext cx="774684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12:02:33Z</dcterms:created>
  <dc:creator>A Grabau</dc:creator>
  <dc:description/>
  <dc:language>en-US</dc:language>
  <cp:lastModifiedBy>Malte Zander</cp:lastModifiedBy>
  <dcterms:modified xsi:type="dcterms:W3CDTF">2020-04-29T15:53:20Z</dcterms:modified>
  <cp:revision>3</cp:revision>
  <dc:subject/>
  <dc:title>PowerPoint-Präsentation</dc:title>
</cp:coreProperties>
</file>