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523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9960" y="607680"/>
            <a:ext cx="7202160" cy="25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960" y="3565800"/>
            <a:ext cx="720216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9960" y="8182440"/>
            <a:ext cx="720216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9960" y="607680"/>
            <a:ext cx="7202160" cy="25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960" y="3565800"/>
            <a:ext cx="351432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90320" y="3565800"/>
            <a:ext cx="351432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960" y="8182440"/>
            <a:ext cx="351432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090320" y="8182440"/>
            <a:ext cx="351432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960" y="607680"/>
            <a:ext cx="7202160" cy="25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3565800"/>
            <a:ext cx="231876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35000" y="3565800"/>
            <a:ext cx="231876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0040" y="3565800"/>
            <a:ext cx="231876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9960" y="8182440"/>
            <a:ext cx="231876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835000" y="8182440"/>
            <a:ext cx="231876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270040" y="8182440"/>
            <a:ext cx="231876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607680"/>
            <a:ext cx="7202160" cy="25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99960" y="3565800"/>
            <a:ext cx="7202160" cy="88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9960" y="607680"/>
            <a:ext cx="7202160" cy="25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99960" y="3565800"/>
            <a:ext cx="7202160" cy="88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9960" y="607680"/>
            <a:ext cx="7202160" cy="25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99960" y="3565800"/>
            <a:ext cx="3514320" cy="88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090320" y="3565800"/>
            <a:ext cx="3514320" cy="88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607680"/>
            <a:ext cx="7202160" cy="25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99960" y="607680"/>
            <a:ext cx="7202160" cy="11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607680"/>
            <a:ext cx="7202160" cy="25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3565800"/>
            <a:ext cx="351432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90320" y="3565800"/>
            <a:ext cx="3514320" cy="88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99960" y="8182440"/>
            <a:ext cx="351432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9960" y="607680"/>
            <a:ext cx="7202160" cy="25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9960" y="3565800"/>
            <a:ext cx="3514320" cy="88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90320" y="3565800"/>
            <a:ext cx="351432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90320" y="8182440"/>
            <a:ext cx="351432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9960" y="607680"/>
            <a:ext cx="7202160" cy="25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960" y="3565800"/>
            <a:ext cx="351432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90320" y="3565800"/>
            <a:ext cx="351432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960" y="8182440"/>
            <a:ext cx="7202160" cy="42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hteck 1"/>
          <p:cNvSpPr/>
          <p:nvPr/>
        </p:nvSpPr>
        <p:spPr>
          <a:xfrm>
            <a:off x="0" y="5554800"/>
            <a:ext cx="7999560" cy="968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" name="Grafik 2" descr=""/>
          <p:cNvPicPr/>
          <p:nvPr/>
        </p:nvPicPr>
        <p:blipFill>
          <a:blip r:embed="rId1"/>
          <a:stretch/>
        </p:blipFill>
        <p:spPr>
          <a:xfrm>
            <a:off x="1440" y="0"/>
            <a:ext cx="8001000" cy="77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1T11:38:39Z</dcterms:created>
  <dc:creator>A Grabau</dc:creator>
  <dc:description/>
  <dc:language>en-US</dc:language>
  <cp:lastModifiedBy>Malte Zander</cp:lastModifiedBy>
  <dcterms:modified xsi:type="dcterms:W3CDTF">2020-04-29T15:53:51Z</dcterms:modified>
  <cp:revision>4</cp:revision>
  <dc:subject/>
  <dc:title>PowerPoint-Präsentation</dc:title>
</cp:coreProperties>
</file>